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357-5986-490C-9557-730EA37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6BE-0D89-43F4-8524-5183F384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E99-BB8F-48EF-A2FE-B22FBE58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B14-62FD-423F-AC09-0FA0CF6B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D1D-0099-410E-860B-73892341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DD0-705A-4ABA-BCA4-A010E28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8B1-9500-4C8B-9007-8847852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8CD-A9FC-4704-8753-B4E11B0E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F9A-0C51-46FD-AEF7-73AAE36E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AEC-C819-414A-B4FE-FB3C6339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B49-ACB0-4332-85E1-CE04A5A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769-6264-430B-9256-23C2F26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AB9-7DC1-44EE-BAC2-1B382DDD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f4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04920"/>
            <a:ext cx="7181640" cy="620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805360"/>
            <a:ext cx="590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557360"/>
            <a:ext cx="12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141300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rad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44600" y="620640"/>
            <a:ext cx="5981760" cy="623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6021360"/>
            <a:ext cx="51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981000"/>
            <a:ext cx="2303280" cy="503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5240" y="9748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6912000" cy="600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413000"/>
            <a:ext cx="180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773360"/>
            <a:ext cx="1224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5734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743880" cy="622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1700280"/>
            <a:ext cx="165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628640"/>
            <a:ext cx="1224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9:35:28Z</dcterms:created>
  <dc:creator>user</dc:creator>
  <dc:description/>
  <dc:language>en-US</dc:language>
  <cp:lastModifiedBy>user</cp:lastModifiedBy>
  <dcterms:modified xsi:type="dcterms:W3CDTF">2011-10-05T09:37:02Z</dcterms:modified>
  <cp:revision>2</cp:revision>
  <dc:subject/>
  <dc:title>Economic Integration</dc:title>
</cp:coreProperties>
</file>